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926-D292-40B2-97B4-B3173F56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E75-9AF7-4F0D-A85F-8449152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69C-5D06-4749-98B3-87F4B734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AEB-7845-4201-A866-C404AB95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A07-7E82-42B0-AD9C-09C29CC1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ADF-5788-4CD3-9F73-B2C266D7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DBD-85BC-4999-86D1-5F5EADFD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5B0-7F5C-4B2D-B3D5-53536DE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F05-23D0-4D4C-8E45-A866CEA8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42A-267A-4C31-A8FD-1DAB1B5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08B-AB1C-4478-BD78-F6D7029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4D3-634E-4A68-A6C6-2179CB9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65C-2BAE-4D79-875F-AC282C4A3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22.flickr.com/32435719_3ee6083ebd_o.jpg" TargetMode="External"/><Relationship Id="rId2" Type="http://schemas.openxmlformats.org/officeDocument/2006/relationships/hyperlink" Target="http://www.dustydavis.com/blogimages/lonely_cloud_400.jpg" TargetMode="External"/><Relationship Id="rId3" Type="http://schemas.openxmlformats.org/officeDocument/2006/relationships/hyperlink" Target="http://www.khrg.org/photoreports/2007photos/gallery2007/photos/a5.jpg" TargetMode="External"/><Relationship Id="rId4" Type="http://schemas.openxmlformats.org/officeDocument/2006/relationships/hyperlink" Target="http://photoblog.typologic.com/images/20070714124147_raven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try Explic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Examining and Analyzing Poe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1981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once was a big brown cat  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That liked to eat a lot of mice.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He got all round and fat          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Because they tasted so nice.           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9718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305920" cy="32767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woods these are I think I know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house is in the village though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not see me stopping h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atch his woods fill up with sn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little horse must think it que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top without a farmhouse ne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he woods and frozen l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rkest evening of the year.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y the first thing that pops in your head when you hear the word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c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19520" y="380880"/>
            <a:ext cx="3581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e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3915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5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5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5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5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5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5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o chat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very helpful in an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often play games with my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ometimes interrupt when my owner i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can drop a beat in the middle of the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el important because I go everywhere my owner go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m 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PH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657520" cy="26096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gin by Examining the tit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ages come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Chimney Sweep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Bl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dere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onely as a Clou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dswo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illside Thaw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Rave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Edgar Allen 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Gold Can Stay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amining the title (cont’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motions come to mi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Try to Trick Me with a Kiss” by Sylvia Pl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ptain! My Captain!” by Walt Whit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Moonlight” by Thomas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Old” by William Butler Y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 of the Morning Star” by Amy Po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668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peak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add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flicts or themes does the poem present, address, or ques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s in the poem? Is there a “plot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speaker? Physical lo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action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feel compelled to speak? What is the motiv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aker/Pers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doing the tal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is the character or persona created by the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oes the speaker add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the poem take 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the speaker address the liste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terary Devices in Poetr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ttern of rhyme throughout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teration-repetition at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nance-repetition of vow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w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by s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 G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nance-repetition of consonants sounds within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Rap 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my tape deck, 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p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981080"/>
            <a:ext cx="838080" cy="685800"/>
          </a:xfrm>
          <a:custGeom>
            <a:avLst/>
            <a:gdLst>
              <a:gd name="textAreaLeft" fmla="*/ 345240 w 838080"/>
              <a:gd name="textAreaRight" fmla="*/ 492840 w 8380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Word Cho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the poet selects and the way they are phrased can alter the meaning of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 association we make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et’s give it a t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ferences to other works or events outside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ag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ow does the poet appeal to the sen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76720"/>
            <a:ext cx="838440" cy="609480"/>
          </a:xfrm>
          <a:custGeom>
            <a:avLst/>
            <a:gdLst>
              <a:gd name="textAreaLeft" fmla="*/ 345600 w 838440"/>
              <a:gd name="textAreaRight" fmla="*/ 492840 w 8384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838440" cy="685800"/>
          </a:xfrm>
          <a:custGeom>
            <a:avLst/>
            <a:gdLst>
              <a:gd name="textAreaLeft" fmla="*/ 345600 w 838440"/>
              <a:gd name="textAreaRight" fmla="*/ 492840 w 83844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of two unrelated thing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using “like” or “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animate objects given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object comes to represent something else entir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82880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4290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, son, I'll tell you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for me ain't been no crystal stai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had tacks in 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plin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oards torn up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laces with no carpet on the floor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the 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been a-climbin' 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achin' landin'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urnin' corn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ometimes goin' in the da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there ain't been no lig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boy, don't you turn ba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set down on the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use you finds it's kinder har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fall now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'se still goin', hone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still climbin'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e for me ain't been no crystal stai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1:33:45Z</dcterms:created>
  <dc:creator>IRIS</dc:creator>
  <dc:description/>
  <dc:language>en-US</dc:language>
  <cp:lastModifiedBy>ASD</cp:lastModifiedBy>
  <dcterms:modified xsi:type="dcterms:W3CDTF">2008-04-10T13:49:21Z</dcterms:modified>
  <cp:revision>32</cp:revision>
  <dc:subject/>
  <dc:title>Poetry Explication </dc:title>
</cp:coreProperties>
</file>