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C9E-74C0-46E6-8177-1DFD2CA0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1D03-A54A-498E-A978-2995AC0E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51DC-9949-42F8-BE0A-E204A0BF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3143-6190-430C-9E49-EF8B8027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F380-DE13-4D09-B19D-1ADCB591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6AF-586E-44E0-AC1B-1E7184EF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369-9B48-4B06-AE8D-AC205A18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2C05-D971-464F-9855-1AFB1604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8C6-DAC2-4944-8426-596E650F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D1D2-E903-4948-9377-1CB6F480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F3A0-25FB-4176-A992-F258D34E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9F5-42A6-4CFF-B10F-A481263A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6BBB-64F2-40A1-B5C9-D48591B9C6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hotos22.flickr.com/32435719_3ee6083ebd_o.jpg" TargetMode="External"/><Relationship Id="rId2" Type="http://schemas.openxmlformats.org/officeDocument/2006/relationships/hyperlink" Target="http://www.dustydavis.com/blogimages/lonely_cloud_400.jpg" TargetMode="External"/><Relationship Id="rId3" Type="http://schemas.openxmlformats.org/officeDocument/2006/relationships/hyperlink" Target="http://www.khrg.org/photoreports/2007photos/gallery2007/photos/a5.jpg" TargetMode="External"/><Relationship Id="rId4" Type="http://schemas.openxmlformats.org/officeDocument/2006/relationships/hyperlink" Target="http://photoblog.typologic.com/images/20070714124147_raven.jpg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oetry Explication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rt of Examining and Analyzing Poet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7772400" cy="198144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 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once was a big brown cat    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That liked to eat a lot of mice.        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He got all round and fat                  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Because they tasted so nice.           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8600"/>
            <a:ext cx="1981080" cy="368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1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971800"/>
            <a:ext cx="1981080" cy="368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581280"/>
            <a:ext cx="8305920" cy="327672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se woods these are I think I know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house is in the village though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ill not see me stopping he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watch his woods fill up with sno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little horse must think it quee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top without a farmhouse nea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the woods and frozen lak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rkest evening of the year.  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ay the first thing that pops in your head when you hear the word…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mon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elbar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ancho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sa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l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754380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819520" y="380880"/>
            <a:ext cx="3581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e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barra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br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e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7391520" y="57913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45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45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5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5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5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45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45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45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45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45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5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45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45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800100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83059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like to chat all th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very helpful in an emer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often play games with my ow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ometimes interrupt when my owner is b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can drop a beat in the middle of the str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feel important because I go everywhere my owner goe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m 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ELL PH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76920" y="3962520"/>
            <a:ext cx="2657520" cy="260964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800100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0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0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6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8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0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gin by Examining the tit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mages come to mi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1"/>
              </a:rPr>
              <a:t>Chimney Sweeper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” by William Bl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ndere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2"/>
              </a:rPr>
              <a:t>Lonely as a Cloud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” by Willia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ordswor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3"/>
              </a:rPr>
              <a:t>Hillside Thaw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” by Robert 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4"/>
              </a:rPr>
              <a:t>Raven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” by Edgar Allen Po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hing Gold Can Stay” by Robert 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xamining the title (cont’d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emotions come to mi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Try to Trick Me with a Kiss” by Sylvia Pla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Captain! My Captain!” by Walt Whit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Moonlight” by Thomas Har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are Old” by William Butler Ye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mise of the Morning Star” by Amy Po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sk yourself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66880" y="1295280"/>
            <a:ext cx="6019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speak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es the speaker addr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flicts or themes does the poem present, address, or ques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a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ens in the poem? Is there a “plot”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speaker? Physical loc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es the action occu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es the speaker feel compelled to speak? What is the motiv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eaker/Perso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is doing the talk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eaker is the character or persona created by the po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spea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does the speaker addr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conflic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is the sett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does the poem take pla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es the speaker address the listen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iterary Devices in Poetr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hyme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attern of rhyme throughout the po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iteration-repetition at the begi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e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e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ked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k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kl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nance-repetition of vow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Fl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f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sw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 by sl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ng Gr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onance-repetition of consonants sounds within the 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Rap r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ts my tape deck, 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ts p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t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43800" y="1981080"/>
            <a:ext cx="838080" cy="685800"/>
          </a:xfrm>
          <a:custGeom>
            <a:avLst/>
            <a:gdLst>
              <a:gd name="textAreaLeft" fmla="*/ 345240 w 838080"/>
              <a:gd name="textAreaRight" fmla="*/ 492840 w 83808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Importance of Word Choi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s the poet selects and the way they are phrased can alter the meaning of the po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not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he association we make with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Let’s give it a try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ga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l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eferences to other works or events outside the po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mage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how does the poet appeal to the sen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276720"/>
            <a:ext cx="838440" cy="609480"/>
          </a:xfrm>
          <a:custGeom>
            <a:avLst/>
            <a:gdLst>
              <a:gd name="textAreaLeft" fmla="*/ 345600 w 838440"/>
              <a:gd name="textAreaRight" fmla="*/ 492840 w 8384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3886200"/>
            <a:ext cx="838440" cy="685800"/>
          </a:xfrm>
          <a:custGeom>
            <a:avLst/>
            <a:gdLst>
              <a:gd name="textAreaLeft" fmla="*/ 345600 w 838440"/>
              <a:gd name="textAreaRight" fmla="*/ 492840 w 83844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igurative Languag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aph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mparison of two unrelated thing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imi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mparison using “like” or “a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onifi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nanimate objects given human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mbol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n object comes to represent something else entire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828800"/>
            <a:ext cx="685800" cy="457200"/>
          </a:xfrm>
          <a:custGeom>
            <a:avLst/>
            <a:gdLst>
              <a:gd name="textAreaLeft" fmla="*/ 282600 w 685800"/>
              <a:gd name="textAreaRight" fmla="*/ 403200 w 6858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3429000"/>
            <a:ext cx="685800" cy="533520"/>
          </a:xfrm>
          <a:custGeom>
            <a:avLst/>
            <a:gdLst>
              <a:gd name="textAreaLeft" fmla="*/ 282600 w 685800"/>
              <a:gd name="textAreaRight" fmla="*/ 403200 w 6858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l, son, I'll tell you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 for me ain't been no crystal stair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's had tacks in it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splinter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boards torn up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places with no carpet on the floor -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all the ti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se been a-climbin' o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reachin' landin'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urnin' corner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sometimes goin' in the dar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there ain't been no light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boy, don't you turn back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't you set down on the step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'Cause you finds it's kinder har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't you fall now -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I'se still goin', hone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se still climbin'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life for me ain't been no crystal stair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80773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1:33:45Z</dcterms:created>
  <dc:creator>IRIS</dc:creator>
  <dc:description/>
  <dc:language>en-US</dc:language>
  <cp:lastModifiedBy>ASD</cp:lastModifiedBy>
  <dcterms:modified xsi:type="dcterms:W3CDTF">2008-04-10T13:49:21Z</dcterms:modified>
  <cp:revision>32</cp:revision>
  <dc:subject/>
  <dc:title>Poetry Explication </dc:title>
</cp:coreProperties>
</file>