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593-91D5-4A2D-90C8-744365EC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361-C97D-49C4-926A-951520C2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037-C11F-4A14-AC6B-E4B1B7DA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850-596D-4399-A900-2C64B11D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372-B8C6-424F-BE47-A1FB90C6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F07-1160-4ADB-8F2B-D52C2BA4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C93-2739-4001-8942-EE679163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D74-5029-4BB0-BAE1-04DBC8F9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BB3-74E4-4531-95D3-B378C33A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0C3-5F0A-4091-8785-C14981CF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E23-43FA-4437-ACC2-E1FDA187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00A-662F-4CD2-B509-65DF4F67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BF4C-CDA0-41B7-999B-8B8A695B7E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hotos22.flickr.com/32435719_3ee6083ebd_o.jpg" TargetMode="External"/><Relationship Id="rId2" Type="http://schemas.openxmlformats.org/officeDocument/2006/relationships/hyperlink" Target="http://www.dustydavis.com/blogimages/lonely_cloud_400.jpg" TargetMode="External"/><Relationship Id="rId3" Type="http://schemas.openxmlformats.org/officeDocument/2006/relationships/hyperlink" Target="http://www.khrg.org/photoreports/2007photos/gallery2007/photos/a5.jpg" TargetMode="External"/><Relationship Id="rId4" Type="http://schemas.openxmlformats.org/officeDocument/2006/relationships/hyperlink" Target="http://photoblog.typologic.com/images/20070714124147_raven.jpg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oetry Explication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rt of Examining and Analyzing Poet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772400" cy="198144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once was a big brown cat    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That liked to eat a lot of mice.        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He got all round and fat                  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Because they tasted so nice.           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"/>
            <a:ext cx="1981080" cy="368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1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971800"/>
            <a:ext cx="1981080" cy="368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581280"/>
            <a:ext cx="8305920" cy="32767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se woods these are I think I know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house is in the village though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ill not see me stopping he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watch his woods fill up with sno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little horse must think it quee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top without a farmhouse nea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the woods and frozen la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rkest evening of the year. 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ay the first thing that pops in your head when you hear the word…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mon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elbar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ncho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sa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l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54380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819520" y="380880"/>
            <a:ext cx="3581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barra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e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391520" y="57913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5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45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5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5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45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45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45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45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5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5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45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45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800100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3059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like to chat all th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very helpful in an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often play games with my ow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ometimes interrupt when my owner is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can drop a beat in the middle of the str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feel important because I go everywhere my owner goe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m 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LL PH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3962520"/>
            <a:ext cx="2657520" cy="260964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800100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6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8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gin by Examining the tit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mages come to mi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Chimney Sweeper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” by William Bl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ndere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2"/>
              </a:rPr>
              <a:t>Lonely as a Cloud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” by Willia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ordswor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3"/>
              </a:rPr>
              <a:t>Hillside Thaw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” by Robert 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4"/>
              </a:rPr>
              <a:t>Rave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” by Edgar Allen Po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Gold Can Stay” by Robert 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xamining the title (cont’d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emotions come to mi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Try to Trick Me with a Kiss” by Sylvia Pla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Captain! My Captain!” by Walt Whit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Moonlight” by Thomas Har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are Old” by William Butler Ye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mise of the Morning Star” by Amy Po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sk yourself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6688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speak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es the speaker addr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flicts or themes does the poem present, address, or ques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a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ens in the poem? Is there a “plot”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speaker? Physical loc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es the action occu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es the speaker feel compelled to speak? What is the motiv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aker/Perso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doing the talk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aker is the character or persona created by the po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spea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does the speaker addr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conflic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is the set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oes the poem take pla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es the speaker address the listen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iterary Devices in Poetr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hyme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attern of rhyme throughout the po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iteration-repetition at the begi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e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e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ked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k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k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nance-repetition of vow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Fl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f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sw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 by sl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ng Gr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onance-repetition of consonants sounds within the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Rap 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ts my tape deck, 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ts p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t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1981080"/>
            <a:ext cx="838080" cy="685800"/>
          </a:xfrm>
          <a:custGeom>
            <a:avLst/>
            <a:gdLst>
              <a:gd name="textAreaLeft" fmla="*/ 345240 w 838080"/>
              <a:gd name="textAreaRight" fmla="*/ 492840 w 83808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Importance of Word Choi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s the poet selects and the way they are phrased can alter the meaning of the po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not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he association we make with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Let’s give it a try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g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eferences to other works or events outside the po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mage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how does the poet appeal to the sen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276720"/>
            <a:ext cx="838440" cy="609480"/>
          </a:xfrm>
          <a:custGeom>
            <a:avLst/>
            <a:gdLst>
              <a:gd name="textAreaLeft" fmla="*/ 345600 w 838440"/>
              <a:gd name="textAreaRight" fmla="*/ 492840 w 8384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3886200"/>
            <a:ext cx="838440" cy="685800"/>
          </a:xfrm>
          <a:custGeom>
            <a:avLst/>
            <a:gdLst>
              <a:gd name="textAreaLeft" fmla="*/ 345600 w 838440"/>
              <a:gd name="textAreaRight" fmla="*/ 492840 w 83844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igurative Langu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aph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mparison of two unrelated thing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im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mparison using “like” or “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onif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nanimate objects given human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mbol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 object comes to represent something else entire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828800"/>
            <a:ext cx="685800" cy="457200"/>
          </a:xfrm>
          <a:custGeom>
            <a:avLst/>
            <a:gdLst>
              <a:gd name="textAreaLeft" fmla="*/ 282600 w 685800"/>
              <a:gd name="textAreaRight" fmla="*/ 403200 w 6858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3429000"/>
            <a:ext cx="685800" cy="533520"/>
          </a:xfrm>
          <a:custGeom>
            <a:avLst/>
            <a:gdLst>
              <a:gd name="textAreaLeft" fmla="*/ 282600 w 685800"/>
              <a:gd name="textAreaRight" fmla="*/ 403200 w 6858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l, son, I'll tell you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for me ain't been no crystal stair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's had tacks in i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splinter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oards torn up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places with no carpet on the floor -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all the ti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se been a-climbin' o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reachin' landin'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urnin' corner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sometimes goin' in the dar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there ain't been no ligh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boy, don't you turn back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't you set down on the step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'Cause you finds it's kinder har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't you fall now -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I'se still goin', hone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se still climbin'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ife for me ain't been no crystal stair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80773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1:33:45Z</dcterms:created>
  <dc:creator>IRIS</dc:creator>
  <dc:description/>
  <dc:language>en-US</dc:language>
  <cp:lastModifiedBy>ASD</cp:lastModifiedBy>
  <dcterms:modified xsi:type="dcterms:W3CDTF">2008-04-10T13:49:21Z</dcterms:modified>
  <cp:revision>32</cp:revision>
  <dc:subject/>
  <dc:title>Poetry Explication </dc:title>
</cp:coreProperties>
</file>