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352A-9344-4DB2-8C5B-1B704115E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C5DA-E9A9-488B-BFA5-ECF2743DF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9100-C026-4659-8076-650C104DA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9696-CD7C-4CF1-A038-CD7BCED9B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7945-107E-411F-9466-BFA1FAA19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FE84-88A9-486F-BFB4-B6A895D88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AC22-9B99-477A-9C73-95D09A3EE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4DA3-D0D9-4D26-915A-C41C15049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C50E-2B2A-410F-922B-56FFD003A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55AC-F116-4C3F-A174-207F509A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1C67-5433-46C2-89F8-3806378A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47BB-EA04-40D8-B34C-39C3D55D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E3E57-2D03-4C15-8616-1CA441BC012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photos22.flickr.com/32435719_3ee6083ebd_o.jpg" TargetMode="External"/><Relationship Id="rId2" Type="http://schemas.openxmlformats.org/officeDocument/2006/relationships/hyperlink" Target="http://www.dustydavis.com/blogimages/lonely_cloud_400.jpg" TargetMode="External"/><Relationship Id="rId3" Type="http://schemas.openxmlformats.org/officeDocument/2006/relationships/hyperlink" Target="http://www.khrg.org/photoreports/2007photos/gallery2007/photos/a5.jpg" TargetMode="External"/><Relationship Id="rId4" Type="http://schemas.openxmlformats.org/officeDocument/2006/relationships/hyperlink" Target="http://photoblog.typologic.com/images/20070714124147_raven.jpg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oetry Explication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rt of Examining and Analyzing Poetr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33520" y="838080"/>
            <a:ext cx="7772400" cy="1981440"/>
          </a:xfrm>
          <a:prstGeom prst="rect">
            <a:avLst/>
          </a:prstGeom>
          <a:noFill/>
          <a:ln w="5724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 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once was a big brown cat     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  That liked to eat a lot of mice.        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  He got all round and fat                  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  Because they tasted so nice.           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228600"/>
            <a:ext cx="1981080" cy="368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 1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971800"/>
            <a:ext cx="1981080" cy="368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 2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3581280"/>
            <a:ext cx="8305920" cy="3276720"/>
          </a:xfrm>
          <a:prstGeom prst="rect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se woods these are I think I know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s house is in the village though;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will not see me stopping her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watch his woods fill up with snow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 little horse must think it quee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stop without a farmhouse nea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tween the woods and frozen lak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arkest evening of the year.  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>
            <a:hlinkClick r:id="" action="ppaction://hlinkshowjump?jump=previousslide"/>
          </p:cNvPr>
          <p:cNvSpPr/>
          <p:nvPr/>
        </p:nvSpPr>
        <p:spPr>
          <a:xfrm>
            <a:off x="7848720" y="61722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7493"/>
                </a:moveTo>
                <a:lnTo>
                  <a:pt x="12697" y="7493"/>
                </a:lnTo>
                <a:lnTo>
                  <a:pt x="12697" y="12828"/>
                </a:lnTo>
                <a:cubicBezTo>
                  <a:pt x="12697" y="13751"/>
                  <a:pt x="13498" y="14482"/>
                  <a:pt x="14533" y="14482"/>
                </a:cubicBezTo>
                <a:lnTo>
                  <a:pt x="16196" y="14482"/>
                </a:lnTo>
                <a:cubicBezTo>
                  <a:pt x="17231" y="14482"/>
                  <a:pt x="18032" y="13751"/>
                  <a:pt x="18032" y="12828"/>
                </a:cubicBezTo>
                <a:lnTo>
                  <a:pt x="18032" y="7493"/>
                </a:lnTo>
                <a:lnTo>
                  <a:pt x="16196" y="7493"/>
                </a:lnTo>
                <a:lnTo>
                  <a:pt x="19703" y="3985"/>
                </a:lnTo>
                <a:lnTo>
                  <a:pt x="23376" y="7493"/>
                </a:lnTo>
                <a:lnTo>
                  <a:pt x="21540" y="7493"/>
                </a:lnTo>
                <a:lnTo>
                  <a:pt x="21540" y="12828"/>
                </a:lnTo>
                <a:cubicBezTo>
                  <a:pt x="21540" y="15596"/>
                  <a:pt x="18964" y="18155"/>
                  <a:pt x="16196" y="18155"/>
                </a:cubicBezTo>
                <a:lnTo>
                  <a:pt x="14533" y="18155"/>
                </a:lnTo>
                <a:cubicBezTo>
                  <a:pt x="11766" y="18155"/>
                  <a:pt x="9189" y="15596"/>
                  <a:pt x="9189" y="12828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Say the first thing that pops in your head when you hear the word…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3809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mon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elbarr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lancho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fesa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l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ad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>
            <a:hlinkClick r:id="" action="ppaction://hlinkshowjump?jump=previousslide"/>
          </p:cNvPr>
          <p:cNvSpPr/>
          <p:nvPr/>
        </p:nvSpPr>
        <p:spPr>
          <a:xfrm>
            <a:off x="7543800" y="594360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2819520" y="380880"/>
            <a:ext cx="358128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ewo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barrass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e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mbrel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rl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n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el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m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l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>
            <a:hlinkClick r:id="" action="ppaction://hlinkshowjump?jump=previousslide"/>
          </p:cNvPr>
          <p:cNvSpPr/>
          <p:nvPr/>
        </p:nvSpPr>
        <p:spPr>
          <a:xfrm>
            <a:off x="7391520" y="57913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7493"/>
                </a:moveTo>
                <a:lnTo>
                  <a:pt x="8653" y="7493"/>
                </a:lnTo>
                <a:lnTo>
                  <a:pt x="8653" y="12828"/>
                </a:lnTo>
                <a:cubicBezTo>
                  <a:pt x="8653" y="13751"/>
                  <a:pt x="9453" y="14482"/>
                  <a:pt x="10489" y="14482"/>
                </a:cubicBezTo>
                <a:lnTo>
                  <a:pt x="12152" y="14482"/>
                </a:lnTo>
                <a:cubicBezTo>
                  <a:pt x="13187" y="14482"/>
                  <a:pt x="13988" y="13751"/>
                  <a:pt x="13988" y="12828"/>
                </a:cubicBezTo>
                <a:lnTo>
                  <a:pt x="13988" y="7493"/>
                </a:lnTo>
                <a:lnTo>
                  <a:pt x="12152" y="7493"/>
                </a:lnTo>
                <a:lnTo>
                  <a:pt x="15659" y="3985"/>
                </a:lnTo>
                <a:lnTo>
                  <a:pt x="19332" y="7493"/>
                </a:lnTo>
                <a:lnTo>
                  <a:pt x="17496" y="7493"/>
                </a:lnTo>
                <a:lnTo>
                  <a:pt x="17496" y="12828"/>
                </a:lnTo>
                <a:cubicBezTo>
                  <a:pt x="17496" y="15596"/>
                  <a:pt x="14919" y="18155"/>
                  <a:pt x="12152" y="18155"/>
                </a:cubicBezTo>
                <a:lnTo>
                  <a:pt x="10489" y="18155"/>
                </a:lnTo>
                <a:cubicBezTo>
                  <a:pt x="7721" y="18155"/>
                  <a:pt x="5145" y="15596"/>
                  <a:pt x="5145" y="12828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45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45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45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45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45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45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45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45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5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45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45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450" fill="hold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450" fill="hold"/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450" fill="hold"/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450" fill="hold"/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676520" y="914400"/>
            <a:ext cx="5715000" cy="4800600"/>
          </a:xfrm>
          <a:prstGeom prst="rect">
            <a:avLst/>
          </a:prstGeom>
          <a:ln w="0">
            <a:noFill/>
          </a:ln>
        </p:spPr>
      </p:pic>
      <p:sp>
        <p:nvSpPr>
          <p:cNvPr id="76" name="">
            <a:hlinkClick r:id="" action="ppaction://hlinkshowjump?jump=previousslide"/>
          </p:cNvPr>
          <p:cNvSpPr/>
          <p:nvPr/>
        </p:nvSpPr>
        <p:spPr>
          <a:xfrm>
            <a:off x="8001000" y="594360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7493"/>
                </a:moveTo>
                <a:lnTo>
                  <a:pt x="8653" y="7493"/>
                </a:lnTo>
                <a:lnTo>
                  <a:pt x="8653" y="12828"/>
                </a:lnTo>
                <a:cubicBezTo>
                  <a:pt x="8653" y="13751"/>
                  <a:pt x="9453" y="14482"/>
                  <a:pt x="10489" y="14482"/>
                </a:cubicBezTo>
                <a:lnTo>
                  <a:pt x="12152" y="14482"/>
                </a:lnTo>
                <a:cubicBezTo>
                  <a:pt x="13187" y="14482"/>
                  <a:pt x="13988" y="13751"/>
                  <a:pt x="13988" y="12828"/>
                </a:cubicBezTo>
                <a:lnTo>
                  <a:pt x="13988" y="7493"/>
                </a:lnTo>
                <a:lnTo>
                  <a:pt x="12152" y="7493"/>
                </a:lnTo>
                <a:lnTo>
                  <a:pt x="15659" y="3985"/>
                </a:lnTo>
                <a:lnTo>
                  <a:pt x="19332" y="7493"/>
                </a:lnTo>
                <a:lnTo>
                  <a:pt x="17496" y="7493"/>
                </a:lnTo>
                <a:lnTo>
                  <a:pt x="17496" y="12828"/>
                </a:lnTo>
                <a:cubicBezTo>
                  <a:pt x="17496" y="15596"/>
                  <a:pt x="14919" y="18155"/>
                  <a:pt x="12152" y="18155"/>
                </a:cubicBezTo>
                <a:lnTo>
                  <a:pt x="10489" y="18155"/>
                </a:lnTo>
                <a:cubicBezTo>
                  <a:pt x="7721" y="18155"/>
                  <a:pt x="5145" y="15596"/>
                  <a:pt x="5145" y="12828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09480" y="304920"/>
            <a:ext cx="830592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like to chat all the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am very helpful in an emerg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often play games with my ow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sometimes interrupt when my owner is bus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can drop a beat in the middle of the stre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feel important because I go everywhere my owner goe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m I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ELL PHON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876920" y="3962520"/>
            <a:ext cx="2657520" cy="2609640"/>
          </a:xfrm>
          <a:prstGeom prst="rect">
            <a:avLst/>
          </a:prstGeom>
          <a:ln w="0">
            <a:noFill/>
          </a:ln>
        </p:spPr>
      </p:pic>
      <p:sp>
        <p:nvSpPr>
          <p:cNvPr id="79" name="">
            <a:hlinkClick r:id="" action="ppaction://hlinkshowjump?jump=previousslide"/>
          </p:cNvPr>
          <p:cNvSpPr/>
          <p:nvPr/>
        </p:nvSpPr>
        <p:spPr>
          <a:xfrm>
            <a:off x="8001000" y="594360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5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0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5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0" dur="1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5" dur="1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0" dur="10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5" dur="10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0" dur="1000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77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6" dur="770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8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0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Begin by Examining the titl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mages come to min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  <a:hlinkClick r:id="rId1"/>
              </a:rPr>
              <a:t>Chimney Sweepers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” by William Bla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andered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  <a:hlinkClick r:id="rId2"/>
              </a:rPr>
              <a:t>Lonely as a Cloud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” by William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Wordswort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  <a:hlinkClick r:id="rId3"/>
              </a:rPr>
              <a:t>Hillside Thaw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” by Robert Fr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  <a:hlinkClick r:id="rId4"/>
              </a:rPr>
              <a:t>Raven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” by Edgar Allen Po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hing Gold Can Stay” by Robert Fr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4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4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4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4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4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4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4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4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Examining the title (cont’d)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emotions come to min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ver Try to Trick Me with a Kiss” by Sylvia Plat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 Captain! My Captain!” by Walt Whit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Moonlight” by Thomas Har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You are Old” by William Butler Yea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mise of the Morning Star” by Amy Pow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sk yourself…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66880" y="1295280"/>
            <a:ext cx="6019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h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the speak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h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oes the speaker addres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ha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onflicts or themes does the poem present, address, or questi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ha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ppens in the poem? Is there a “plot”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he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the speaker? Physical locati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h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oes the action occu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h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oes the speaker feel compelled to speak? What is the motivati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9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9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9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9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9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9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9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9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9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9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9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9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peaker/Person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is doing the talk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peaker is the character or persona created by the po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the speak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does the speaker addr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conflic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is the sett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does the poem take plac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does the speaker address the listen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1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1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1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iterary Devices in Poetry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hyme Sche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pattern of rhyme throughout the po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iteration-repetition at the begin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ter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per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cked 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k of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ckled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p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onance-repetition of vow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Fl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 f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 sw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 by sl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ng Gr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onance-repetition of consonants sounds within the wo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Rap r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ts my tape deck, 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ts pr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ti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43800" y="1981080"/>
            <a:ext cx="838080" cy="685800"/>
          </a:xfrm>
          <a:custGeom>
            <a:avLst/>
            <a:gdLst>
              <a:gd name="textAreaLeft" fmla="*/ 345240 w 838080"/>
              <a:gd name="textAreaRight" fmla="*/ 492840 w 838080"/>
              <a:gd name="textAreaTop" fmla="*/ 282600 h 685800"/>
              <a:gd name="textAreaBottom" fmla="*/ 403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he Importance of Word Choic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s the poet selects and the way they are phrased can alter the meaning of the po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onnot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the association we make with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Let’s give it a try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Agai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llus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eferences to other works or events outside the po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mager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how does the poet appeal to the sens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3276720"/>
            <a:ext cx="838440" cy="609480"/>
          </a:xfrm>
          <a:custGeom>
            <a:avLst/>
            <a:gdLst>
              <a:gd name="textAreaLeft" fmla="*/ 345600 w 838440"/>
              <a:gd name="textAreaRight" fmla="*/ 492840 w 83844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95480" y="3886200"/>
            <a:ext cx="838440" cy="685800"/>
          </a:xfrm>
          <a:custGeom>
            <a:avLst/>
            <a:gdLst>
              <a:gd name="textAreaLeft" fmla="*/ 345600 w 838440"/>
              <a:gd name="textAreaRight" fmla="*/ 492840 w 838440"/>
              <a:gd name="textAreaTop" fmla="*/ 282600 h 685800"/>
              <a:gd name="textAreaBottom" fmla="*/ 403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Figurative Languag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etaph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comparison of two unrelated thing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imi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comparison using “like” or “a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ersonific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inanimate objects given human characteri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ymbolis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an object comes to represent something else entirel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0" y="1828800"/>
            <a:ext cx="685800" cy="457200"/>
          </a:xfrm>
          <a:custGeom>
            <a:avLst/>
            <a:gdLst>
              <a:gd name="textAreaLeft" fmla="*/ 282600 w 685800"/>
              <a:gd name="textAreaRight" fmla="*/ 403200 w 6858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05520" y="3429000"/>
            <a:ext cx="685800" cy="533520"/>
          </a:xfrm>
          <a:custGeom>
            <a:avLst/>
            <a:gdLst>
              <a:gd name="textAreaLeft" fmla="*/ 282600 w 685800"/>
              <a:gd name="textAreaRight" fmla="*/ 403200 w 685800"/>
              <a:gd name="textAreaTop" fmla="*/ 219960 h 533520"/>
              <a:gd name="textAreaBottom" fmla="*/ 313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5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0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5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0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ll, son, I'll tell you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e for me ain't been no crystal stair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's had tacks in it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splinters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boards torn up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places with no carpet on the floor --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re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all the tim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'se been a-climbin' on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reachin' landin's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turnin' corners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sometimes goin' in the dark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 there ain't been no light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 boy, don't you turn back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n't you set down on the step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'Cause you finds it's kinder hard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n't you fall now --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I'se still goin', honey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'se still climbin'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life for me ain't been no crystal stair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>
            <a:hlinkClick r:id="" action="ppaction://hlinkshowjump?jump=previousslide"/>
          </p:cNvPr>
          <p:cNvSpPr/>
          <p:nvPr/>
        </p:nvSpPr>
        <p:spPr>
          <a:xfrm>
            <a:off x="8077320" y="62485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7493"/>
                </a:moveTo>
                <a:lnTo>
                  <a:pt x="12697" y="7493"/>
                </a:lnTo>
                <a:lnTo>
                  <a:pt x="12697" y="12828"/>
                </a:lnTo>
                <a:cubicBezTo>
                  <a:pt x="12697" y="13751"/>
                  <a:pt x="13498" y="14482"/>
                  <a:pt x="14533" y="14482"/>
                </a:cubicBezTo>
                <a:lnTo>
                  <a:pt x="16196" y="14482"/>
                </a:lnTo>
                <a:cubicBezTo>
                  <a:pt x="17231" y="14482"/>
                  <a:pt x="18032" y="13751"/>
                  <a:pt x="18032" y="12828"/>
                </a:cubicBezTo>
                <a:lnTo>
                  <a:pt x="18032" y="7493"/>
                </a:lnTo>
                <a:lnTo>
                  <a:pt x="16196" y="7493"/>
                </a:lnTo>
                <a:lnTo>
                  <a:pt x="19703" y="3985"/>
                </a:lnTo>
                <a:lnTo>
                  <a:pt x="23376" y="7493"/>
                </a:lnTo>
                <a:lnTo>
                  <a:pt x="21540" y="7493"/>
                </a:lnTo>
                <a:lnTo>
                  <a:pt x="21540" y="12828"/>
                </a:lnTo>
                <a:cubicBezTo>
                  <a:pt x="21540" y="15596"/>
                  <a:pt x="18964" y="18155"/>
                  <a:pt x="16196" y="18155"/>
                </a:cubicBezTo>
                <a:lnTo>
                  <a:pt x="14533" y="18155"/>
                </a:lnTo>
                <a:cubicBezTo>
                  <a:pt x="11766" y="18155"/>
                  <a:pt x="9189" y="15596"/>
                  <a:pt x="9189" y="12828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7T01:33:45Z</dcterms:created>
  <dc:creator>IRIS</dc:creator>
  <dc:description/>
  <dc:language>en-US</dc:language>
  <cp:lastModifiedBy>ASD</cp:lastModifiedBy>
  <dcterms:modified xsi:type="dcterms:W3CDTF">2008-04-10T13:49:21Z</dcterms:modified>
  <cp:revision>32</cp:revision>
  <dc:subject/>
  <dc:title>Poetry Explication </dc:title>
</cp:coreProperties>
</file>