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D24-28E0-490D-9D1C-A238AB92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19F-0356-42B6-A0D4-C495B319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BCA-F0D6-426F-94CB-D25F730F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032-1A77-45FD-9681-AEB47336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787-5FFE-41A1-861E-71728B86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35B-32CB-4C85-80FC-247568A4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C5A-8C4C-4646-BB7A-3A9A1523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565-E1A4-47F8-9AD7-C2A06E95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A12-7D51-4569-9484-3FB260F4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9DF-244C-41C3-8B00-BB613817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24E-6A15-4F0D-ADD6-563425A1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24B-173E-4178-8D63-5E97C06D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13D2-F3B7-476C-9DAA-390C31025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How to Write an Outl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quote:  Men can only find true happiness when destiny is accepted (85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Story about destiny influencing lives; do you believe in it or no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Thesis: In </a:t>
            </a:r>
            <a:r>
              <a:rPr b="0" i="1" lang="en-US" sz="3300" spc="-1" strike="noStrike">
                <a:solidFill>
                  <a:srgbClr val="000066"/>
                </a:solidFill>
                <a:latin typeface="Arial"/>
              </a:rPr>
              <a:t>Oedipus Rex, </a:t>
            </a:r>
            <a:r>
              <a:rPr b="0" lang="en-US" sz="3300" spc="-1" strike="noStrike">
                <a:solidFill>
                  <a:srgbClr val="000066"/>
                </a:solidFill>
                <a:latin typeface="Arial"/>
              </a:rPr>
              <a:t>Sophocles examines the nature of destiny using Oedipus’ blindness to the truth, his stubborn pride and his uncontrollable wrath</a:t>
            </a:r>
            <a:r>
              <a:rPr b="1" lang="en-US" sz="33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.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support – blindness to 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willing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listen to Tires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. Tiriesias tells him he is murderer (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Oedipus threatens him with tor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. accuses him of conspiring with Creon (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shes out at Cr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fends him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Already have power, don’t want responsibility 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Oedipus banish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 him(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ronic at end Creon must take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grees to care for daughters and banished Oedipus to lift curse (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gry with Joc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lieves she is embarrased that he is of noble birth (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sunderstands he when she says she will kill he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.   Tie to focus- Shows destiny is already predetermined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tions happened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0 years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uld not have prevented it, but made things 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II.  2</a:t>
            </a:r>
            <a:r>
              <a:rPr b="0" lang="en-US" sz="3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support – stubborn 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elieves in his own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ro who defeated the Sphynx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rus is always praising 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l that he may be descended from gods (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e to him to find the cure for the plague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eels he already escaped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option r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ents denied it (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-502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ft Corinth because he didn’t want to fulfill prophecy (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6033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ssenger brings news of Polybus’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. Oedipus believes he has beaten fate (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ie to focus - Shows that when you try to run from destiny, you actually run in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V. Third Support – uncontrollable wr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. Road 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killed old man on road (2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should never have killed elderly ma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. unwilling to admit murder for 20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. Quick fury at Cr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willingness to turn on best friend (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. Jocasta and punis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1. rips door out of hinges (5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calls for berserker 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doors were heavy, o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. calls for sword (4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intended to kill Jocasta, but already 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3. gouges out own eyes (5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. uses pins from queen’s 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. repeatedly stabs, over and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. tie to focus – anger can blind you to your mistakes, letting destiny take it course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. 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A. Ties back into the way you opened the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. Restates main 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3:43:54Z</dcterms:created>
  <dc:creator>ASD</dc:creator>
  <dc:description/>
  <dc:language>en-US</dc:language>
  <cp:lastModifiedBy>ASD</cp:lastModifiedBy>
  <dcterms:modified xsi:type="dcterms:W3CDTF">2008-01-17T14:22:06Z</dcterms:modified>
  <cp:revision>2</cp:revision>
  <dc:subject/>
  <dc:title>How to Write an Outline </dc:title>
</cp:coreProperties>
</file>