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2BD-66A3-4A6C-905A-776BAF87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B98-86BB-4A74-B00C-E44F388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5D1-A698-4819-84D3-C1332275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E47-A590-402A-9754-36037281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62E-8266-4D3D-9969-368C91D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98A-C5EB-470A-8AE5-763D5507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E9D-8F6B-48BB-B483-767B5A56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779-FDE9-4C3C-A5DC-6732AAB6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BB0-28EB-4760-8D2F-EC9565CF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CBC-D4FF-43BC-AC53-DA2ED89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F85-8E41-47F0-B246-579423B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204-19BE-4396-9ABC-8F53A4EA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8C5C-BEF3-4174-854B-9559C191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How to Write an 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quote:  Men can only find true happiness when destiny is accepted (85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tory about destiny influencing lives; do you believe in it or no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Thesis: In </a:t>
            </a:r>
            <a:r>
              <a:rPr b="0" i="1" lang="en-US" sz="3300" spc="-1" strike="noStrike">
                <a:solidFill>
                  <a:srgbClr val="000066"/>
                </a:solidFill>
                <a:latin typeface="Arial"/>
              </a:rPr>
              <a:t>Oedipus Rex, </a:t>
            </a: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ophocles examines the nature of destiny using Oedipus’ blindness to the truth, his stubborn pride and his uncontrollable wrath</a:t>
            </a: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.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support – blindness to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willing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listen to Tire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 Tiriesias tells him he is murderer 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Oedipus threatens him with to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accuses him of conspiring with Creon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shes out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ends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Already have power, don’t want responsibility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Oedipus banish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 him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ronic at end Creon must tak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rees to care for daughters and banished Oedipus to lift curse (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gry with Joc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lieves she is embarrased that he is of noble birth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sunderstands he when she says she will kill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  Tie to focus- Shows destiny is already predetermin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tions happened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 year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not have prevented it, but made thing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II.  2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support – stubborn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lieves in his own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ro who defeated the Sphynx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rus is always praising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l that he may be descended from gods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e to him to find the cure for the plague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els he already escaped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option r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ents denied it (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ft Corinth because he didn’t want to fulfill prophecy (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ssenger brings news of Polybus’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. Oedipus believes he has beaten fate (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e to focus - Shows that when you try to run from destiny, you actually run in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V. Third Support – uncontrollable w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. Road 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killed old man on road (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should never have killed elderly m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unwilling to admit murder for 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. Quick fury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willingness to turn on best friend (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. Jocasta and pun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rips door out of hinges (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calls for berserker 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doors were heavy, 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calls for sword (4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intended to kill Jocasta, but already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3. gouges out own eyes (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uses pins from queen’s 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repeatedly stabs,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tie to focus – anger can blind you to your mistakes, letting destiny take it course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.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. Ties back into the way you opened the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. Restates main 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43:54Z</dcterms:created>
  <dc:creator>ASD</dc:creator>
  <dc:description/>
  <dc:language>en-US</dc:language>
  <cp:lastModifiedBy>ASD</cp:lastModifiedBy>
  <dcterms:modified xsi:type="dcterms:W3CDTF">2008-01-17T14:22:06Z</dcterms:modified>
  <cp:revision>2</cp:revision>
  <dc:subject/>
  <dc:title>How to Write an Outline </dc:title>
</cp:coreProperties>
</file>