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E98F-AE6F-4198-A7CB-5C4BEFA2F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E895-EAF0-4E7E-B9B0-F8C2ED50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C0B8-1C36-4620-B194-73AF76B17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A875-CB6F-42CF-A23F-938153D47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A073-7E02-4793-9FEC-C55CDECA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9B2A-8980-4810-9CBC-7B66C869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3D04-A1CE-4BCB-B53B-C76E6083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D570-A3B2-45D5-A741-7ECB0923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09F7-53E0-49AD-8598-D39BC9A7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AC58-CA65-4179-B57B-4990ED98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DA18-69D3-4D14-BD68-9986186A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F777-1DD1-4B7D-AE3C-13464EC0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3DDF-B0F9-451B-B1CD-A036CF054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How to Write an Outlin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825"/>
              </a:spcBef>
              <a:buClr>
                <a:srgbClr val="000066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66"/>
                </a:solidFill>
                <a:latin typeface="Arial"/>
              </a:rPr>
              <a:t>quote:  Men can only find true happiness when destiny is accepted (85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825"/>
              </a:spcBef>
              <a:buClr>
                <a:srgbClr val="000066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66"/>
                </a:solidFill>
                <a:latin typeface="Arial"/>
              </a:rPr>
              <a:t>Story about destiny influencing lives; do you believe in it or not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825"/>
              </a:spcBef>
              <a:buClr>
                <a:srgbClr val="000066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66"/>
                </a:solidFill>
                <a:latin typeface="Arial"/>
              </a:rPr>
              <a:t>Thesis: In </a:t>
            </a:r>
            <a:r>
              <a:rPr b="0" i="1" lang="en-US" sz="3300" spc="-1" strike="noStrike">
                <a:solidFill>
                  <a:srgbClr val="000066"/>
                </a:solidFill>
                <a:latin typeface="Arial"/>
              </a:rPr>
              <a:t>Oedipus Rex, </a:t>
            </a:r>
            <a:r>
              <a:rPr b="0" lang="en-US" sz="3300" spc="-1" strike="noStrike">
                <a:solidFill>
                  <a:srgbClr val="000066"/>
                </a:solidFill>
                <a:latin typeface="Arial"/>
              </a:rPr>
              <a:t>Sophocles examines the nature of destiny using Oedipus’ blindness to the truth, his stubborn pride and his uncontrollable wrath</a:t>
            </a:r>
            <a:r>
              <a:rPr b="1" lang="en-US" sz="33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360" y="0"/>
            <a:ext cx="9372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I.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support – blindness to tr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nwilling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o listen to Tires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. Tiriesias tells him he is murderer (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. Oedipus threatens him with tor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. accuses him of conspiring with Creon (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lpha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ashes out at Cr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fends him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. Already have power, don’t want responsibility (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. Oedipus banish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 him(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ronic at end Creon must take 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grees to care for daughters and banished Oedipus to lift curse (6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lpha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gry with Joca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elieves she is embarrased that he is of noble birth (4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isunderstands he when she says she will kill her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.   Tie to focus- Shows destiny is already predetermined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ctions happened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0 years earl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uld not have prevented it, but made things wo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0"/>
            <a:ext cx="9601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III.  2</a:t>
            </a:r>
            <a:r>
              <a:rPr b="0" lang="en-US" sz="3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support – stubborn p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elieves in his own grea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-60336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ero who defeated the Sphynx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-60336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horus is always praising hi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60480" indent="-5025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lphaL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eel that he may be descended from gods (4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60480" indent="-5025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lphaL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me to him to find the cure for the plague (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eels he already escaped dest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-60336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doption rum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60480" indent="-5025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lphaL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rents denied it (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60480" indent="-5025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lphaL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eft Corinth because he didn’t want to fulfill prophecy (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-60336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essenger brings news of Polybus’ 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60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. Oedipus believes he has beaten fate (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ie to focus - Shows that when you try to run from destiny, you actually run int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0"/>
            <a:ext cx="9601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V. Third Support – uncontrollable wr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. Road 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1. killed old man on road (2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. should never have killed elderly ma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2. unwilling to admit murder for 20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. Quick fury at Cr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1. willingness to turn on best friend (1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. Jocasta and punish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1. rips door out of hinges (5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. calls for berserker 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. doors were heavy, o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2. calls for sword (4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. intended to kill Jocasta, but already d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3. gouges out own eyes (5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. uses pins from queen’s 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. repeatedly stabs, over and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. tie to focus – anger can blind you to your mistakes, letting destiny take it course.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0"/>
            <a:ext cx="9601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V. 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A. Ties back into the way you opened the 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B. Restates main 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3:43:54Z</dcterms:created>
  <dc:creator>ASD</dc:creator>
  <dc:description/>
  <dc:language>en-US</dc:language>
  <cp:lastModifiedBy>ASD</cp:lastModifiedBy>
  <dcterms:modified xsi:type="dcterms:W3CDTF">2008-01-17T14:22:06Z</dcterms:modified>
  <cp:revision>2</cp:revision>
  <dc:subject/>
  <dc:title>How to Write an Outline </dc:title>
</cp:coreProperties>
</file>