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DD7-11C3-4B3E-B293-E627C03D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679-BBBB-4414-A7C3-80806A03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997-3D15-4C04-A9B1-421CF5A4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F3A-37AC-46B9-B3CA-D8625260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C8A-4C26-450F-9B1D-32DE6FFB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3EF4-4BC2-442F-8F67-1678A432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02CB-750C-4C18-8C8B-56259E5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3498-4248-41ED-B4AA-2DC096F6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1ED1-D099-4AD3-8C43-3B89CBD1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CEDB-3550-420F-A288-DE4757FF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7640-B5D9-4D5A-A744-0E73D85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238-F69E-4BB3-8050-939707D9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FD5F-364B-4CFE-AD42-894E14E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D83-8BFF-4E3D-A03C-BC910C7C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A3F-F432-4777-A6BF-287B856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6A37-7618-453C-A4BB-5847AD04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E78C-1409-40E3-98EF-2364F654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0DB-CE49-4ABD-98C5-A9366E6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9D7-F30B-4E1C-803B-636D8DF1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3F1-B6EC-436C-86CB-D2B0C5D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E5B-EF12-4C3A-A05E-3627195A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307-CABA-4AEF-B2E0-F71F134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8DC-8B09-4681-B4B9-3DD0525A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51D-29D2-4D56-92DF-526FA97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6ECA-9E08-4DDF-BEC9-1DC74D5BB8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A6F-EB29-49F8-B3B7-6C83828DD9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sa.gov/images/content/109823main_Dynamic_Sun.jpg" TargetMode="External"/><Relationship Id="rId2" Type="http://schemas.openxmlformats.org/officeDocument/2006/relationships/hyperlink" Target="http://www.notesfromtheroad.com/files/soft_coral.jpg" TargetMode="External"/><Relationship Id="rId3" Type="http://schemas.openxmlformats.org/officeDocument/2006/relationships/hyperlink" Target="http://www.germes-online.com/direct/dbimage/50257850/Black_Wires.jpg" TargetMode="External"/><Relationship Id="rId4" Type="http://schemas.openxmlformats.org/officeDocument/2006/relationships/hyperlink" Target="http://as4me.com/blog/rose-2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artner Poetry Projec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 toda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ick your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Pick your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Read and explicate the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itle, speaker, addressee, setting, wha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vations of the speak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actors would appropriately conve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eaker and other people in the po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movie drama will the poem fit in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’ eyes are nothing like the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C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far more red than her lips’ r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now be white, why then her breasts are du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hairs be wires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black wi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 on her he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ave seen roses damask’d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red and whi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no such roses see I in her cheek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n some perfumes is there more de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in the breath that from my mistress r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ove to hear her speak, yet well I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music hath a far more pleasing s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grant I never saw a goddess g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, when she walks, treads o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, by heaven, I think my love as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ny she belied with false compa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nnet 1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our speaker/perso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he address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confli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ppens in the poem? Is there a “plot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speake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action occur? Specul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persona feel compelled to speak? What irks him? What is his motiv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agine you are the directo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title of the mo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speaker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mistress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lot? Storyl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 (ex: tragedy, romantic comedy, sci-fi, et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does the movie take place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“catchy phrase” that might summarize the mov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05520" cy="4190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1080" y="4495680"/>
            <a:ext cx="5105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662940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1080" y="30492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371600"/>
            <a:ext cx="416268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Beneath the Surfa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WO THUMBS UP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228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09680" y="5943600"/>
            <a:ext cx="609840" cy="53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00"/>
                </a:solidFill>
                <a:latin typeface="Tahoma"/>
              </a:rPr>
              <a:t>Love is in the Eyes of the Beholde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876920"/>
            <a:ext cx="5181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NE HATHOWAY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ONARDO DICAP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ISA M. WATKINS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RECT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M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OUMOUNT PRODUCTION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UND EDITOR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STIN 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019920" y="6172200"/>
            <a:ext cx="761760" cy="29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457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is Summer’s Must See Romantic Comedy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ject Tim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PARTNER! Yes you can pick your partner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partner, you must create your own movie poster bas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ems you select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oose one we did not read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04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nd out Printed Requiremen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explicate (examine and analyze) the poem by asking th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What? Where? When? Wh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movie poster based on the po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 sure to include the following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e Ti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ors-who will play the speak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o will play the addresse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other characters are invol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the background of the poster reflects what the poem is ab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reative and detailed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ha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n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u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edn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ork on the movie poster with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ptop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-class project worth 100 points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E: Next Thursday, April 1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5:36:00Z</dcterms:created>
  <dc:creator>IRIS</dc:creator>
  <dc:description/>
  <dc:language>en-US</dc:language>
  <cp:lastModifiedBy>ASD</cp:lastModifiedBy>
  <dcterms:modified xsi:type="dcterms:W3CDTF">2008-04-11T13:48:43Z</dcterms:modified>
  <cp:revision>21</cp:revision>
  <dc:subject/>
  <dc:title>Sonnet 130</dc:title>
</cp:coreProperties>
</file>