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9D4-D971-4A8A-87EA-C59588A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9FE-C32A-4269-9F56-8875376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F50-6E57-4E9A-98CA-ADDC9411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81A-053B-4390-8241-B42BE80F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165A-44F4-47AA-B216-99DC7849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C51-C968-47F4-BE8E-742F0D5A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C668-D316-402F-A3BB-50A6895B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5D59-B756-49FF-A902-8146377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0AA-8440-47BC-949E-167E1229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B5CD-6535-4961-84CD-6C816621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B2B1-6775-42B8-B949-F7ADBE7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3CC-64ED-4A31-951B-A3EA38D6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E8B-85B4-433C-8F02-0114A24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4892-C920-45C1-93A5-450660A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B11-C555-4531-A4CD-A680537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1B66-DB19-48E1-A57C-BE47251E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C089-1984-4F9F-87AA-9C761F1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2D9-C218-4A3A-9382-A82BDD77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473-D606-467D-AE45-6B28AB6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DA1-7EDA-49DD-BE3C-DDD5EC2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972-4FB0-4C50-AF83-096823A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163-2480-4408-B445-4435053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999-69F9-4E31-B721-D52FBFB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18C-619C-4A14-B36A-60731F5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A1B-2723-4691-BF6E-CE75396F8A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79A-5014-498E-A799-19AE32520C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sa.gov/images/content/109823main_Dynamic_Sun.jpg" TargetMode="External"/><Relationship Id="rId2" Type="http://schemas.openxmlformats.org/officeDocument/2006/relationships/hyperlink" Target="http://www.notesfromtheroad.com/files/soft_coral.jpg" TargetMode="External"/><Relationship Id="rId3" Type="http://schemas.openxmlformats.org/officeDocument/2006/relationships/hyperlink" Target="http://www.germes-online.com/direct/dbimage/50257850/Black_Wires.jpg" TargetMode="External"/><Relationship Id="rId4" Type="http://schemas.openxmlformats.org/officeDocument/2006/relationships/hyperlink" Target="http://as4me.com/blog/rose-2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artner Poetry Projec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 to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ick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Pick your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Read and explicate the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itle, speaker, addressee, setting, wh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vations of the speak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actors would appropriately conve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eaker and other people in the po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movie drama will the poem fit in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’ eyes are nothing like the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far more red than her lips’ r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now be white, why then her breasts are du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hairs be wires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black wi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 on her he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ave seen roses damask’d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red and 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no such roses see I in her cheek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n some perfumes is there more de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in the breath that from my mistress r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ve to hear her speak, yet well I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music hath a far more pleasing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grant I never saw a goddess g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, when she walks, treads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, by heaven, I think my love as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ny she belied with false compa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nnet 1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our speaker/perso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he address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confli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ppens in the poem? Is there a “plo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peake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action occur? Specul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persona feel compelled to speak? What irks him? What is his motiv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agine you are the directo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title of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speaker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mistress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lot? Story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 (ex: tragedy, romantic comedy, sci-fi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es the movie take place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“catchy phrase” that might summarize the mov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05520" cy="419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4495680"/>
            <a:ext cx="5105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662940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1080" y="3049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371600"/>
            <a:ext cx="4162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Beneath the Surfa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WO THUMBS UP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228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609840" cy="53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00"/>
                </a:solidFill>
                <a:latin typeface="Tahoma"/>
              </a:rPr>
              <a:t>Love is in the Eyes of the Beholde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876920"/>
            <a:ext cx="5181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E HATHOWAY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ONARDO DICAP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ISA M. WATKINS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RECT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M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OUMOUNT PRODUCTION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UND EDITOR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STIN 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019920" y="6172200"/>
            <a:ext cx="761760" cy="29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457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is Summer’s Must See Romantic Comed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ject Tim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PARTNER! Yes you can pick your partn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partner, you must create your own movie poster bas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ems you select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oose one we did not read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nd out Printed Requiremen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explicate (examine and analyze) the poem by asking th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What? Where? When? Wh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movie poster based on the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 sure to include the following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ors-who will play the speak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o will play the addres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other characters are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the background of the poster reflects what the poem is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 and detailed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ha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u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dn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ork on the movie poster with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ptop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class project worth 100 points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E: Next Thursday, April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5:36:00Z</dcterms:created>
  <dc:creator>IRIS</dc:creator>
  <dc:description/>
  <dc:language>en-US</dc:language>
  <cp:lastModifiedBy>ASD</cp:lastModifiedBy>
  <dcterms:modified xsi:type="dcterms:W3CDTF">2008-04-11T13:48:43Z</dcterms:modified>
  <cp:revision>21</cp:revision>
  <dc:subject/>
  <dc:title>Sonnet 130</dc:title>
</cp:coreProperties>
</file>