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7265-34A0-4E6C-BD7F-EF5F83CCE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7ABC-6B84-469D-B5B2-5A51B557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E300-AF97-4163-90F9-AD4E2FC2B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E4C8-0F37-4C2B-853F-08521355A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71F88-6D97-4ECF-A86A-41BC9B69F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42E8-EDB9-48B8-8D6D-90EAE540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D3F46-095B-49D1-AED5-C43363D4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0971-B95B-4CCA-ACA8-9DBFFB4A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ADC7-673C-4702-8A97-F80CFAD7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806F-D4EE-4F41-B547-1E66A932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F903-4B34-4B4C-A498-D89C6081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F3DE-1BE9-46D8-9361-86F9EB75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4F63-C738-4369-B076-815E3F7A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10A7-A76D-4B3C-B203-A6AA5DAE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45A1-52AD-4371-A222-C46DD24C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143F-4EF4-464B-83CA-B8A8FC6EC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50AE-6983-497E-A560-AD40FA0B9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5EFA-C91E-48F2-B0A6-C2259F96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3346-EFBA-43F2-AEA1-E7D56434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E9D3-A92C-453A-BBBD-3898ABAA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17C9-B5D7-4F50-9D63-2765F762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3684-02B9-4927-B0F5-7220C06F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579F-1D5A-4695-8935-1BB616E4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5DE4-E4A5-42AE-ABB3-17F5634C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2F63-CB7A-41D6-9224-110DDB2CB42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327C-8715-4E54-AF07-EA279D3DD82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asa.gov/images/content/109823main_Dynamic_Sun.jpg" TargetMode="External"/><Relationship Id="rId2" Type="http://schemas.openxmlformats.org/officeDocument/2006/relationships/hyperlink" Target="http://www.notesfromtheroad.com/files/soft_coral.jpg" TargetMode="External"/><Relationship Id="rId3" Type="http://schemas.openxmlformats.org/officeDocument/2006/relationships/hyperlink" Target="http://www.germes-online.com/direct/dbimage/50257850/Black_Wires.jpg" TargetMode="External"/><Relationship Id="rId4" Type="http://schemas.openxmlformats.org/officeDocument/2006/relationships/hyperlink" Target="http://as4me.com/blog/rose-2.jpg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Partner Poetry Project Introduc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do you need to do today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) Pick your partn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) Pick your po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) Read and explicate the po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title, speaker, addressee, setting, wha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otivations of the speaker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what actors would appropriately convey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peaker and other people in the poem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what movie drama will the poem fit int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y mistress’ eyes are nothing like the 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su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Cor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s far more red than her lips’ red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snow be white, why then her breasts are dun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hairs be wires, 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black wire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w on her he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have seen roses damask’d, 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red and whit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t no such roses see I in her cheek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in some perfumes is there more deli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an in the breath that from my mistress reek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love to hear her speak, yet well I kn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at music hath a far more pleasing sou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grant I never saw a goddess g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y mistress, when she walks, treads on the grou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yet, by heaven, I think my love as r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any she belied with false compar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onnet 130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h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a our speaker/person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h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he addressing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ha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the conflic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ha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happens in the poem? Is there a “plot”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he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the speaker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he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oes the action occur? Speculate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h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oes the persona feel compelled to speak? What irks him? What is his motiv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magine you are the director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title of the movi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 will play the speaker? WH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 will play the mistress? WH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plot? Storylin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movie genre? (ex: tragedy, romantic comedy, sci-fi, etc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re does the movie take place? WH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ick a “catchy phrase” that might summarize the movi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81080" y="304920"/>
            <a:ext cx="5105520" cy="4190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981080" y="4495680"/>
            <a:ext cx="510552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304920"/>
            <a:ext cx="0" cy="63244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86600" y="304920"/>
            <a:ext cx="0" cy="63244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981080" y="6629400"/>
            <a:ext cx="51055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981080" y="304920"/>
            <a:ext cx="51055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38280" y="1371600"/>
            <a:ext cx="4162680" cy="1447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Beneath the Surface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60958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TWO THUMBS UP!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743200" y="2819520"/>
            <a:ext cx="1228680" cy="1600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105520" y="2971800"/>
            <a:ext cx="1143000" cy="1447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2209680" y="5943600"/>
            <a:ext cx="609840" cy="5382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352680" y="182880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0000"/>
                </a:solidFill>
                <a:latin typeface="Tahoma"/>
              </a:rPr>
              <a:t>Love is in the Eyes of the Beholder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876920"/>
            <a:ext cx="518148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NNE HATHOWAY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LEONARDO DICAP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DUCED BY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LISA M. WATKINS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IRECTED BY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OM B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AROUMOUNT PRODUCTION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UND EDITOR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JUSTIN L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6019920" y="6172200"/>
            <a:ext cx="761760" cy="295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286000" y="457200"/>
            <a:ext cx="464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This Summer’s Must See Romantic Comedy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ject Time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ICK A PARTNER! Yes you can pick your partner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 a partner, you must create your own movie poster based o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O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the poems you select in cla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u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hoose one we did not read in cla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3049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and out Printed Requirement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do you need to do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st explicate (examine and analyze) the poem by asking the quest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? What? Where? When? Why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e a movie poster based on the po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9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e sure to include the following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vie Tit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ors-who will play the speake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who will play the addressee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what other characters are involved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movie genr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sure the background of the poster reflects what the poem is abo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 creative and detailed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28240" y="3805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will hav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onda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uesda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an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ednesda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work on the movie poster with th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laptops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-class project worth 100 points!!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UE: Next Thursday, April 17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!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77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77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3" dur="77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77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77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77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77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3" dur="77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05:36:00Z</dcterms:created>
  <dc:creator>IRIS</dc:creator>
  <dc:description/>
  <dc:language>en-US</dc:language>
  <cp:lastModifiedBy>ASD</cp:lastModifiedBy>
  <dcterms:modified xsi:type="dcterms:W3CDTF">2008-04-11T13:48:43Z</dcterms:modified>
  <cp:revision>21</cp:revision>
  <dc:subject/>
  <dc:title>Sonnet 130</dc:title>
</cp:coreProperties>
</file>