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FD3-CD4A-48A2-B1C3-2A5A4337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652-301C-4C80-89B7-9F609A88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2F0-A1B0-420D-8062-6DD2E1AE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949-D65F-4C83-9824-3FFFFA26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D61B-D576-4896-ABF6-FA6D026D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A050-13EC-4B6C-93B6-3C63C6E9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64FA-B086-4164-BA18-2C5EF629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CBA4-0818-420E-94A9-FB5D3C4B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F665-E87B-445C-A70F-04CFA9B1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E886-7FFF-4DC3-B165-F151B10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23F2-415E-4B49-B82F-A54A5FB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425-57BE-4E29-A43F-E921E830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C01D-20FD-4CC4-BF06-F27B724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13E5-AD06-4F22-820A-68256A3D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F253-54AF-4CB9-8389-59E76674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33C7-9DA6-44EC-B912-000F1B4C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DD50-8625-4752-ACBB-650A35AD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30B-4001-4978-A7CB-F2A2589D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DDF-641E-452C-82F0-EFDA712A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65D-0AB5-4D57-A02B-6E1284B9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A15-488F-4119-944F-70331779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AE6-142B-410B-AF9B-CA55C6C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A39-5A29-44F1-9AE0-E53A0B21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DFB-24A4-4624-96B9-7E0318C0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1A82-E1A1-486F-AC54-C174BFAA30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6DEF-A15C-48CB-B44B-7E3B023B26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asa.gov/images/content/109823main_Dynamic_Sun.jpg" TargetMode="External"/><Relationship Id="rId2" Type="http://schemas.openxmlformats.org/officeDocument/2006/relationships/hyperlink" Target="http://www.notesfromtheroad.com/files/soft_coral.jpg" TargetMode="External"/><Relationship Id="rId3" Type="http://schemas.openxmlformats.org/officeDocument/2006/relationships/hyperlink" Target="http://www.germes-online.com/direct/dbimage/50257850/Black_Wires.jpg" TargetMode="External"/><Relationship Id="rId4" Type="http://schemas.openxmlformats.org/officeDocument/2006/relationships/hyperlink" Target="http://as4me.com/blog/rose-2.jp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artner Poetry Project Introdu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you need to do toda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) Pick your part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) Pick your po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) Read and explicate the po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itle, speaker, addressee, setting, wha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vations of the speak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actors would appropriately conve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peaker and other people in the po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movie drama will the poem fit in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mistress’ eyes are nothing like the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su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C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far more red than her lips’ r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now be white, why then her breasts are du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hairs be wires,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black wi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 on her he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have seen roses damask’d,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red and whi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no such roses see I in her cheek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n some perfumes is there more de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 in the breath that from my mistress ree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love to hear her speak, yet well I k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music hath a far more pleasing s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grant I never saw a goddess g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mistress, when she walks, treads on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yet, by heaven, I think my love as r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ny she belied with false compa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onnet 13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our speaker/person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he address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confli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ppens in the poem? Is there a “plot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speaker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oes the action occur? Specul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oes the persona feel compelled to speak? What irks him? What is his motiv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agine you are the directo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title of the movi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play the speaker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play the mistress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lot? Storyli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ovie genre? (ex: tragedy, romantic comedy, sci-fi, et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does the movie take place?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a “catchy phrase” that might summarize the mov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105520" cy="4190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81080" y="4495680"/>
            <a:ext cx="5105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04920"/>
            <a:ext cx="0" cy="6324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304920"/>
            <a:ext cx="0" cy="6324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81080" y="6629400"/>
            <a:ext cx="5105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81080" y="304920"/>
            <a:ext cx="5105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38280" y="1371600"/>
            <a:ext cx="416268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Beneath the Surfac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6095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WO THUMBS UP!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122868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05520" y="2971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209680" y="5943600"/>
            <a:ext cx="609840" cy="538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00"/>
                </a:solidFill>
                <a:latin typeface="Tahoma"/>
              </a:rPr>
              <a:t>Love is in the Eyes of the Beholder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876920"/>
            <a:ext cx="51814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NE HATHOWAY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ONARDO DICAP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D BY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LISA M. WATKINS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IRECTED BY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M B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OUMOUNT PRODUCTION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UND EDITOR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USTIN 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019920" y="6172200"/>
            <a:ext cx="761760" cy="295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0" y="457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his Summer’s Must See Romantic Comedy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ject Time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A PARTNER! Yes you can pick your partner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partner, you must create your own movie poster based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poems you select i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oose one we did not read i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04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nd out Printed Requiremen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you need to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explicate (examine and analyze) the poem by asking the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? What? Where? When? Wh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movie poster based on the po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 sure to include the following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e Ti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ors-who will play the speak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o will play the addresse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hat other characters are involv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movie gen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the background of the poster reflects what the poem is ab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reative and detailed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will hav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n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ues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ednes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work on the movie poster with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aptop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-class project worth 100 points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UE: Next Thursday, April 1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5:36:00Z</dcterms:created>
  <dc:creator>IRIS</dc:creator>
  <dc:description/>
  <dc:language>en-US</dc:language>
  <cp:lastModifiedBy>ASD</cp:lastModifiedBy>
  <dcterms:modified xsi:type="dcterms:W3CDTF">2008-04-11T13:48:43Z</dcterms:modified>
  <cp:revision>21</cp:revision>
  <dc:subject/>
  <dc:title>Sonnet 130</dc:title>
</cp:coreProperties>
</file>